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399-49F9-48BB-8946-D26F6904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441-7A0B-4A34-A026-4D0BFE0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D9F-4CF1-4E3A-91F1-85FA8E92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A16-84CD-464F-BFC5-DF1186A0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A94-C552-455A-B8A5-70B26D9F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0D0-8CF1-45ED-A5AB-68B1DD01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5CB-8F04-46A0-B4BB-D90467F5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B0A-6C36-422C-AD60-F4495B82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690-8153-4B95-8F10-11E9C04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FD5-3CA1-45D4-8BBF-767CEBA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996-71B7-4C76-A4D7-1A4B909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AE9-BC74-4C84-8EA3-1238768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6F8-3D17-4B5B-8AC4-F56C11244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 Naval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y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designed to limit naval warships of 5 countries-USA, GB, Japan, France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on Feb 6th, 1922 (long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imit naval power (ships were the biggest threat back th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not pleased (particularly France and Japan) because they had to maintain fleets in many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after WWI to contro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broke it (military li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18:09Z</dcterms:created>
  <dc:creator>Jay Kim</dc:creator>
  <dc:description/>
  <dc:language>en-US</dc:language>
  <cp:lastModifiedBy>Jay Kim</cp:lastModifiedBy>
  <dcterms:modified xsi:type="dcterms:W3CDTF">2008-10-14T10:35:56Z</dcterms:modified>
  <cp:revision>1</cp:revision>
  <dc:subject/>
  <dc:title>Washington Naval Treaty</dc:title>
</cp:coreProperties>
</file>